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wmf" ContentType="image/x-wmf"/>
  <Override PartName="/ppt/media/image4.png" ContentType="image/pn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1300" spc="-1" strike="noStrike">
                <a:solidFill>
                  <a:srgbClr val="000000"/>
                </a:solidFill>
                <a:latin typeface="Arial"/>
                <a:ea typeface="DejaVu Sans"/>
              </a:defRPr>
            </a:pPr>
            <a:r>
              <a:rPr b="0" sz="1300" spc="-1" strike="noStrike">
                <a:solidFill>
                  <a:srgbClr val="000000"/>
                </a:solidFill>
                <a:latin typeface="Arial"/>
                <a:ea typeface="DejaVu Sans"/>
              </a:rPr>
              <a:t>Effectif D1510 2014 - mars 2021 </a:t>
            </a:r>
          </a:p>
        </c:rich>
      </c:tx>
      <c:layout>
        <c:manualLayout>
          <c:xMode val="edge"/>
          <c:yMode val="edge"/>
          <c:x val="0.346722666547518"/>
          <c:y val="0.044995500449955"/>
        </c:manualLayout>
      </c:layout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Ligne 4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2014</c:v>
                </c:pt>
                <c:pt idx="1">
                  <c:v>2015</c:v>
                </c:pt>
                <c:pt idx="2">
                  <c:v>2016</c:v>
                </c:pt>
                <c:pt idx="3">
                  <c:v>2017</c:v>
                </c:pt>
                <c:pt idx="4">
                  <c:v>2018</c:v>
                </c:pt>
                <c:pt idx="5">
                  <c:v>2019</c:v>
                </c:pt>
                <c:pt idx="6">
                  <c:v>2020</c:v>
                </c:pt>
                <c:pt idx="7">
                  <c:v>2021</c:v>
                </c:pt>
                <c:pt idx="8">
                  <c:v/>
                </c:pt>
                <c:pt idx="9">
                  <c:v/>
                </c:pt>
                <c:pt idx="10">
                  <c:v/>
                </c:pt>
                <c:pt idx="11">
                  <c:v/>
                </c:pt>
                <c:pt idx="12">
                  <c:v/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1591</c:v>
                </c:pt>
                <c:pt idx="1">
                  <c:v>1569</c:v>
                </c:pt>
                <c:pt idx="2">
                  <c:v>1540</c:v>
                </c:pt>
                <c:pt idx="3">
                  <c:v>1486</c:v>
                </c:pt>
                <c:pt idx="4">
                  <c:v>1479</c:v>
                </c:pt>
                <c:pt idx="5">
                  <c:v>1411</c:v>
                </c:pt>
                <c:pt idx="6">
                  <c:v>1353</c:v>
                </c:pt>
                <c:pt idx="7">
                  <c:v>1326</c:v>
                </c:pt>
                <c:pt idx="8">
                  <c:v>0</c:v>
                </c:pt>
                <c:pt idx="9">
                  <c:v>0</c:v>
                </c:pt>
                <c:pt idx="10">
                  <c:v>0</c:v>
                </c:pt>
                <c:pt idx="11">
                  <c:v>0</c:v>
                </c:pt>
                <c:pt idx="12">
                  <c:v>0</c:v>
                </c:pt>
              </c:numCache>
            </c:numRef>
          </c:val>
        </c:ser>
        <c:gapWidth val="100"/>
        <c:overlap val="0"/>
        <c:axId val="26075100"/>
        <c:axId val="10026266"/>
      </c:barChart>
      <c:catAx>
        <c:axId val="26075100"/>
        <c:scaling>
          <c:orientation val="minMax"/>
        </c:scaling>
        <c:delete val="0"/>
        <c:axPos val="b"/>
        <c:title>
          <c:tx>
            <c:rich>
              <a:bodyPr rot="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DejaVu Sans"/>
                  </a:rPr>
                  <a:t>Au 1er Juillet 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[$-40C]dd/mm/yyyy" sourceLinked="1"/>
        <c:majorTickMark val="out"/>
        <c:minorTickMark val="none"/>
        <c:tickLblPos val="nextTo"/>
        <c:spPr>
          <a:ln w="9360">
            <a:solidFill>
              <a:srgbClr val="b3b3b3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DejaVu Sans"/>
              </a:defRPr>
            </a:pPr>
          </a:p>
        </c:txPr>
        <c:crossAx val="10026266"/>
        <c:crosses val="autoZero"/>
        <c:auto val="1"/>
        <c:lblAlgn val="ctr"/>
        <c:lblOffset val="100"/>
        <c:noMultiLvlLbl val="0"/>
      </c:catAx>
      <c:valAx>
        <c:axId val="10026266"/>
        <c:scaling>
          <c:orientation val="minMax"/>
        </c:scaling>
        <c:delete val="0"/>
        <c:axPos val="l"/>
        <c:majorGridlines>
          <c:spPr>
            <a:ln w="9360">
              <a:solidFill>
                <a:srgbClr val="b3b3b3"/>
              </a:solidFill>
              <a:round/>
            </a:ln>
          </c:spPr>
        </c:majorGridlines>
        <c:title>
          <c:tx>
            <c:rich>
              <a:bodyPr rot="-5400000"/>
              <a:lstStyle/>
              <a:p>
                <a:pPr>
                  <a:defRPr b="0" sz="900" spc="-1" strike="noStrike">
                    <a:solidFill>
                      <a:srgbClr val="000000"/>
                    </a:solidFill>
                    <a:latin typeface="Arial"/>
                    <a:ea typeface="DejaVu Sans"/>
                  </a:defRPr>
                </a:pPr>
                <a:r>
                  <a:rPr b="0" sz="900" spc="-1" strike="noStrike">
                    <a:solidFill>
                      <a:srgbClr val="000000"/>
                    </a:solidFill>
                    <a:latin typeface="Arial"/>
                    <a:ea typeface="DejaVu Sans"/>
                  </a:rPr>
                  <a:t>Nombre</a:t>
                </a:r>
              </a:p>
            </c:rich>
          </c:tx>
          <c:overlay val="0"/>
          <c:spPr>
            <a:noFill/>
            <a:ln w="0">
              <a:noFill/>
            </a:ln>
          </c:spPr>
        </c:title>
        <c:numFmt formatCode="#,##0" sourceLinked="0"/>
        <c:majorTickMark val="out"/>
        <c:minorTickMark val="none"/>
        <c:tickLblPos val="nextTo"/>
        <c:spPr>
          <a:ln w="9360">
            <a:solidFill>
              <a:srgbClr val="b3b3b3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  <a:ea typeface="DejaVu Sans"/>
              </a:defRPr>
            </a:pPr>
          </a:p>
        </c:txPr>
        <c:crossAx val="26075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plotVisOnly val="1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AutoShape 3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AutoShape 4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5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6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3852720" y="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520" y="744120"/>
            <a:ext cx="4949640" cy="37134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76640" cy="445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sldNum" idx="1"/>
          </p:nvPr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462A5-EC35-42EA-A03E-D990D3EC1B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0E7CD-1748-4025-9657-7015498F26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A8079-A6FA-4146-AF02-37E99D451E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717A1D-9189-41E9-9117-196CED795441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Text Box 4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137A6-9CD8-47A8-9296-793FA88E1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E14CEE-8F3A-435A-8991-5C14FC7C1F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1" name="Text Box 3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80A08-183A-4082-A068-5DB23DB09FF4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00F36-3F40-4C58-988B-FB9A4ADB41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0CE1B-2127-4B38-8D2F-36C79F7820FC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3CF58-38FC-449C-BAAE-DB45A00A92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BCAEC-895C-4A76-A679-FB4A5C3FF0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Text Box 3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D57F2-4526-4C70-96F4-F37B50EBAA19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A1F59-389C-4847-B27C-DAB1308CD0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4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C3E8F-BF11-4E5F-A180-E46E94FCF956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679E-5CCB-4EE3-8667-B3D9E76E0D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68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36A82-CC14-4F2E-9EA9-E4E8708E5462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719B2-94C7-4E37-A89B-29B0FF437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72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2FFEB-6F4E-49B9-ADF6-365AD1AFA6EE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405FB-9F9A-4206-A43B-3A124BF3DB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76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2299D-5A14-4955-BEAF-88B79CD7166F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E2963-771C-4B8C-AD82-64FBB317CD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80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E6CA2-0C59-46E2-908E-474BDF314E58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B6A0E-EEB5-40CA-8571-A384D33E0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84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ACCDA2-741F-4207-A5D7-441950E22E83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46C18-1C18-4437-B243-6946145347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26F00-E2E4-4F56-9B36-D0693AD1ADAC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08D55-935D-40A9-9BB3-B2D89C5AA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CA02-2BA1-4647-9A5F-716378C057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Text Box 3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08B01-115E-4E12-BA02-69DDA4D610F1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0CAD7-4097-435B-B423-896013F32C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D5AE7-000F-4CD2-A99B-CB0D411391A4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491EE-4465-442D-AA97-EE32D83D9D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4FD0D-6CDB-403D-9446-D0A63BB5535D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1534C-CBC6-4C2D-BB6B-A3BDE3B4BD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Text Box 2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F92FE-A981-45A5-BA1D-EDCC456F0FD2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4E50-6679-447C-AF92-8D12955A02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985FB-AB5A-406D-825E-8B071CB510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" name="Text Box 3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4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72964-FEEA-42DB-9204-EFBF6CF5136A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4798A-3B93-4D4C-B69A-0BF54EF8C7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D1F189-3952-414C-A1B7-33A1D505B8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Text Box 3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29D1F-2095-422A-9255-31E8ECE4D41C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2"/>
          <p:cNvSpPr/>
          <p:nvPr/>
        </p:nvSpPr>
        <p:spPr>
          <a:xfrm>
            <a:off x="3852720" y="9431280"/>
            <a:ext cx="2936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B2D7C9-7447-4779-975C-702F9427D6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1"/>
          <p:cNvSpPr/>
          <p:nvPr/>
        </p:nvSpPr>
        <p:spPr>
          <a:xfrm>
            <a:off x="3852720" y="9431280"/>
            <a:ext cx="2941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19C61-C231-4B1A-821D-1DA7DD595A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" name="Text Box 3"/>
          <p:cNvSpPr/>
          <p:nvPr/>
        </p:nvSpPr>
        <p:spPr>
          <a:xfrm>
            <a:off x="906480" y="4716360"/>
            <a:ext cx="49863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3852720" y="943128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DBA87-BCF4-4E14-A651-C83D5D931448}" type="slidenum">
              <a:rPr b="0" lang="en-US" sz="1200" spc="-1" strike="noStrike">
                <a:solidFill>
                  <a:srgbClr val="958d85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4"/>
          <a:stretch/>
        </p:blipFill>
        <p:spPr>
          <a:xfrm>
            <a:off x="3124080" y="5999040"/>
            <a:ext cx="3348000" cy="85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2743200" y="5964120"/>
            <a:ext cx="3346560" cy="86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3124080" y="5999040"/>
            <a:ext cx="3348000" cy="858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3"/>
          <a:stretch/>
        </p:blipFill>
        <p:spPr>
          <a:xfrm>
            <a:off x="2743200" y="5964120"/>
            <a:ext cx="3346560" cy="8604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743200" y="5964120"/>
            <a:ext cx="3346560" cy="8604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"/>
          <p:cNvPicPr/>
          <p:nvPr/>
        </p:nvPicPr>
        <p:blipFill>
          <a:blip r:embed="rId3"/>
          <a:stretch/>
        </p:blipFill>
        <p:spPr>
          <a:xfrm>
            <a:off x="2743200" y="5964120"/>
            <a:ext cx="3346560" cy="8604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2743200" y="5964120"/>
            <a:ext cx="3346560" cy="860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cap="sq"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7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-380880" y="3429000"/>
            <a:ext cx="975348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2"/>
          <p:cNvSpPr/>
          <p:nvPr/>
        </p:nvSpPr>
        <p:spPr>
          <a:xfrm>
            <a:off x="457200" y="3581280"/>
            <a:ext cx="6858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Narrow Bold"/>
              </a:rPr>
              <a:t>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-76320" y="3429000"/>
            <a:ext cx="9296640" cy="9907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50911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8640" rIns="0" tIns="0" bIns="91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Narrow"/>
              </a:rPr>
              <a:t>SFPE – ESSOR DES CLUB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324000" y="45910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RECRUES / DEPARTS - D15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225440" y="1346040"/>
            <a:ext cx="532764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Recrues et départs sur 3 ans 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      </a:t>
            </a:r>
            <a:r>
              <a:rPr b="1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01/07/2017 - 30/06/2020</a:t>
            </a:r>
            <a:r>
              <a:rPr b="1" lang="fr-FR" sz="18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324000" y="2587680"/>
          <a:ext cx="7707240" cy="2401920"/>
        </p:xfrm>
        <a:graphic>
          <a:graphicData uri="http://schemas.openxmlformats.org/drawingml/2006/table">
            <a:tbl>
              <a:tblPr/>
              <a:tblGrid>
                <a:gridCol w="1925640"/>
                <a:gridCol w="1928520"/>
                <a:gridCol w="1925640"/>
                <a:gridCol w="1927440"/>
              </a:tblGrid>
              <a:tr h="745920">
                <a:tc>
                  <a:txBody>
                    <a:bodyPr lIns="90000" rIns="90000" tIns="25164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cr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épar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ffectif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2160">
                      <a:solidFill>
                        <a:srgbClr val="ffffff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828720">
                <a:tc>
                  <a:txBody>
                    <a:bodyPr lIns="90000" rIns="90000" tIns="25164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 1 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n moyenne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1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5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216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  <a:tr h="827280">
                <a:tc>
                  <a:txBody>
                    <a:bodyPr lIns="90000" rIns="90000" tIns="251640" bIns="46800" anchor="ctr">
                      <a:noAutofit/>
                    </a:bodyPr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 3 a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u réel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30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4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  <a:tc>
                  <a:txBody>
                    <a:bodyPr lIns="90000" rIns="90000" tIns="320040" bIns="46800" anchor="ctr">
                      <a:noAutofit/>
                    </a:bodyPr>
                    <a:p>
                      <a:pPr algn="ctr">
                        <a:lnSpc>
                          <a:spcPct val="5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 1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d2d2f4"/>
                    </a:solidFill>
                  </a:tcPr>
                </a:tc>
              </a:tr>
            </a:tbl>
          </a:graphicData>
        </a:graphic>
      </p:graphicFrame>
      <p:sp>
        <p:nvSpPr>
          <p:cNvPr id="353" name="Text Box 48"/>
          <p:cNvSpPr/>
          <p:nvPr/>
        </p:nvSpPr>
        <p:spPr>
          <a:xfrm>
            <a:off x="1666800" y="5192640"/>
            <a:ext cx="57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Georgia"/>
              </a:rPr>
              <a:t>1 rotarien sur 10 nous quitte chaque année 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49" descr=""/>
          <p:cNvPicPr/>
          <p:nvPr/>
        </p:nvPicPr>
        <p:blipFill>
          <a:blip r:embed="rId1"/>
          <a:stretch/>
        </p:blipFill>
        <p:spPr>
          <a:xfrm>
            <a:off x="7559640" y="619200"/>
            <a:ext cx="1227240" cy="1468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LES RAISONS DE DEP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2232000" y="4680000"/>
            <a:ext cx="6191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411120" y="1216080"/>
            <a:ext cx="8299440" cy="45306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958d85"/>
                </a:solidFill>
                <a:latin typeface="Arial"/>
              </a:rPr>
              <a:t>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1224000" y="1728720"/>
            <a:ext cx="647640" cy="3762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35 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6"/>
          <p:cNvSpPr/>
          <p:nvPr/>
        </p:nvSpPr>
        <p:spPr>
          <a:xfrm>
            <a:off x="2519280" y="4376880"/>
            <a:ext cx="647640" cy="376200"/>
          </a:xfrm>
          <a:prstGeom prst="rect">
            <a:avLst/>
          </a:prstGeom>
          <a:solidFill>
            <a:srgbClr val="f94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22 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840360" y="4016520"/>
            <a:ext cx="648000" cy="376200"/>
          </a:xfrm>
          <a:prstGeom prst="rect">
            <a:avLst/>
          </a:prstGeom>
          <a:solidFill>
            <a:srgbClr val="b3bb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7 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7415280" y="2576520"/>
            <a:ext cx="647640" cy="376200"/>
          </a:xfrm>
          <a:prstGeom prst="rect">
            <a:avLst/>
          </a:prstGeom>
          <a:solidFill>
            <a:srgbClr val="2bd2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9 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6983280" y="1496880"/>
            <a:ext cx="648000" cy="3762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4 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04000" y="1216080"/>
            <a:ext cx="647640" cy="376200"/>
          </a:xfrm>
          <a:prstGeom prst="rect">
            <a:avLst/>
          </a:prstGeom>
          <a:solidFill>
            <a:srgbClr val="007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1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4032360" y="2519280"/>
            <a:ext cx="1152360" cy="792360"/>
          </a:xfrm>
          <a:prstGeom prst="triangle">
            <a:avLst>
              <a:gd name="adj" fmla="val 50000"/>
            </a:avLst>
          </a:prstGeom>
          <a:noFill/>
          <a:ln w="180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AutoShape 12"/>
          <p:cNvSpPr/>
          <p:nvPr/>
        </p:nvSpPr>
        <p:spPr>
          <a:xfrm rot="7740000">
            <a:off x="4650840" y="2249280"/>
            <a:ext cx="576000" cy="360360"/>
          </a:xfrm>
          <a:prstGeom prst="rightArrow">
            <a:avLst>
              <a:gd name="adj1" fmla="val 30074"/>
              <a:gd name="adj2" fmla="val 55115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AutoShape 13"/>
          <p:cNvSpPr/>
          <p:nvPr/>
        </p:nvSpPr>
        <p:spPr>
          <a:xfrm rot="18900000">
            <a:off x="4060800" y="3320640"/>
            <a:ext cx="576360" cy="360360"/>
          </a:xfrm>
          <a:prstGeom prst="rightArrow">
            <a:avLst>
              <a:gd name="adj1" fmla="val 30074"/>
              <a:gd name="adj2" fmla="val 551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4392720" y="2863800"/>
            <a:ext cx="6476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94545"/>
                </a:solidFill>
                <a:latin typeface="Arial"/>
              </a:rPr>
              <a:t>35 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COVID 19 ET EFFECT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503280" y="1366920"/>
            <a:ext cx="7813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L’année 2020-2021:  8 mois face à la crise « Covid 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979640" y="2133720"/>
            <a:ext cx="439272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 er juillet : 135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7 mars : 13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Recrues : 4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Départs : 65</a:t>
            </a: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=&gt; delta = -2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6804000" y="2133720"/>
            <a:ext cx="175104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COVID 19 ET EFFECT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503280" y="1366920"/>
            <a:ext cx="6769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936720" y="2016000"/>
            <a:ext cx="619128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- intronisations  en att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- actions au ralent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=&gt; moins de 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- globalement clubs au ralent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                           </a:t>
            </a: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=&gt; 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Georgia"/>
                <a:ea typeface="ヒラギノ角ゴ Pro W3"/>
              </a:rPr>
              <a:t>Avenir ????</a:t>
            </a:r>
            <a:r>
              <a:rPr b="0" lang="fr-FR" sz="16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6983280" y="1511280"/>
            <a:ext cx="1751040" cy="17510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LE DISTRICT 1510 EN CHIFF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232000" y="4680000"/>
            <a:ext cx="6191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"/>
          <p:cNvPicPr/>
          <p:nvPr/>
        </p:nvPicPr>
        <p:blipFill>
          <a:blip r:embed="rId1"/>
          <a:stretch/>
        </p:blipFill>
        <p:spPr>
          <a:xfrm>
            <a:off x="7272360" y="129528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5"/>
          <p:cNvSpPr/>
          <p:nvPr/>
        </p:nvSpPr>
        <p:spPr>
          <a:xfrm>
            <a:off x="3386160" y="1871640"/>
            <a:ext cx="172728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2 levi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216000" y="3311640"/>
            <a:ext cx="3887640" cy="1152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6880" rIns="56880" tIns="56880" bIns="56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  </a:t>
            </a:r>
            <a:r>
              <a:rPr b="0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Augmenter les recrutements 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- dans les clu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- création de club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4824360" y="3294000"/>
            <a:ext cx="3816360" cy="1170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56880" rIns="56880" tIns="56880" bIns="56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Diminu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le nombre de dépa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AutoShape 8"/>
          <p:cNvSpPr/>
          <p:nvPr/>
        </p:nvSpPr>
        <p:spPr>
          <a:xfrm rot="2340000">
            <a:off x="4640400" y="2653920"/>
            <a:ext cx="1224000" cy="287280"/>
          </a:xfrm>
          <a:prstGeom prst="rightArrow">
            <a:avLst>
              <a:gd name="adj1" fmla="val 27593"/>
              <a:gd name="adj2" fmla="val 139812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 flipH="1" rot="19260000">
            <a:off x="2479320" y="2598840"/>
            <a:ext cx="1224000" cy="287280"/>
          </a:xfrm>
          <a:prstGeom prst="rightArrow">
            <a:avLst>
              <a:gd name="adj1" fmla="val 27593"/>
              <a:gd name="adj2" fmla="val 139812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CREER DE NOUVEAUX CLUB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2232000" y="4680000"/>
            <a:ext cx="6191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7272360" y="129528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387" name="Rectangle 5"/>
          <p:cNvSpPr/>
          <p:nvPr/>
        </p:nvSpPr>
        <p:spPr>
          <a:xfrm>
            <a:off x="2232000" y="1295280"/>
            <a:ext cx="4237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Une solution simplifiée 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les clubs satelli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152360" y="2604960"/>
            <a:ext cx="7047000" cy="30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Pourquoi 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- être présent sur un territoire inoccup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- créer des clubs différents, « nouvelle génération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=&gt; permettre à des personnes de devenir rotarie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</a:rPr>
              <a:t>dans un club à leur i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IDEES ATELIER SF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2232000" y="4680000"/>
            <a:ext cx="6191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Oval 4"/>
          <p:cNvSpPr/>
          <p:nvPr/>
        </p:nvSpPr>
        <p:spPr>
          <a:xfrm>
            <a:off x="287280" y="1295280"/>
            <a:ext cx="3311640" cy="1224000"/>
          </a:xfrm>
          <a:prstGeom prst="ellipse">
            <a:avLst/>
          </a:prstGeom>
          <a:solidFill>
            <a:srgbClr val="94b6d9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503280" y="1641600"/>
            <a:ext cx="2808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RECRUT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Oval 6"/>
          <p:cNvSpPr/>
          <p:nvPr/>
        </p:nvSpPr>
        <p:spPr>
          <a:xfrm>
            <a:off x="4896000" y="2232000"/>
            <a:ext cx="3311280" cy="1224000"/>
          </a:xfrm>
          <a:prstGeom prst="ellipse">
            <a:avLst/>
          </a:prstGeom>
          <a:solidFill>
            <a:srgbClr val="eeeeee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5327640" y="4464000"/>
            <a:ext cx="3529080" cy="1295280"/>
          </a:xfrm>
          <a:prstGeom prst="ellipse">
            <a:avLst/>
          </a:prstGeom>
          <a:solidFill>
            <a:srgbClr val="eeeeee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792000" y="3887640"/>
            <a:ext cx="3311640" cy="1224000"/>
          </a:xfrm>
          <a:prstGeom prst="ellipse">
            <a:avLst/>
          </a:prstGeom>
          <a:solidFill>
            <a:srgbClr val="eeeeee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5184720" y="2519280"/>
            <a:ext cx="2735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80"/>
                </a:solidFill>
                <a:latin typeface="Georgia"/>
              </a:rPr>
              <a:t>Commun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10"/>
          <p:cNvSpPr/>
          <p:nvPr/>
        </p:nvSpPr>
        <p:spPr>
          <a:xfrm>
            <a:off x="1368360" y="4248000"/>
            <a:ext cx="2735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80"/>
                </a:solidFill>
                <a:latin typeface="Georgia"/>
              </a:rPr>
              <a:t>STOP VE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1"/>
          <p:cNvSpPr/>
          <p:nvPr/>
        </p:nvSpPr>
        <p:spPr>
          <a:xfrm>
            <a:off x="5256360" y="4824360"/>
            <a:ext cx="3958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80"/>
                </a:solidFill>
                <a:latin typeface="Georgia"/>
              </a:rPr>
              <a:t>« Each one bring one 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IDEES ATELIER SF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2232000" y="4680000"/>
            <a:ext cx="6191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4"/>
          <p:cNvSpPr/>
          <p:nvPr/>
        </p:nvSpPr>
        <p:spPr>
          <a:xfrm>
            <a:off x="5184720" y="1440000"/>
            <a:ext cx="3311640" cy="1224000"/>
          </a:xfrm>
          <a:prstGeom prst="ellipse">
            <a:avLst/>
          </a:prstGeom>
          <a:solidFill>
            <a:srgbClr val="94b6d9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5688000" y="1800360"/>
            <a:ext cx="2808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FIDEL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6"/>
          <p:cNvSpPr/>
          <p:nvPr/>
        </p:nvSpPr>
        <p:spPr>
          <a:xfrm>
            <a:off x="1465200" y="2825640"/>
            <a:ext cx="3311640" cy="2664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tretch/>
        </p:blipFill>
        <p:spPr>
          <a:xfrm>
            <a:off x="1944720" y="3206880"/>
            <a:ext cx="237960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1728720" y="122400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ESSOR DES CLU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457200" y="1219320"/>
            <a:ext cx="465444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1008000" y="1944720"/>
            <a:ext cx="7920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1- L’équipe distric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2- Autre piste de recrutement : les prospects rotary.or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3- Le D1510 en quelques chiffr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4- Covid 19 et Effectif</a:t>
            </a:r>
            <a:r>
              <a:rPr b="1" lang="fr-FR" sz="2200" spc="-1" strike="noStrike">
                <a:solidFill>
                  <a:srgbClr val="00a8e4"/>
                </a:solidFill>
                <a:latin typeface="Georgia"/>
                <a:ea typeface="ヒラギノ角ゴ Pro W3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5- Nous devons réagi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tretch/>
        </p:blipFill>
        <p:spPr>
          <a:xfrm>
            <a:off x="6191280" y="72072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380880" y="457200"/>
            <a:ext cx="876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NOTRE EQUIPE DISTRI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15800" y="1295280"/>
            <a:ext cx="79660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6" descr=""/>
          <p:cNvPicPr/>
          <p:nvPr/>
        </p:nvPicPr>
        <p:blipFill>
          <a:blip r:embed="rId1"/>
          <a:stretch/>
        </p:blipFill>
        <p:spPr>
          <a:xfrm>
            <a:off x="5180040" y="3573360"/>
            <a:ext cx="1198440" cy="1800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9" descr=""/>
          <p:cNvPicPr/>
          <p:nvPr/>
        </p:nvPicPr>
        <p:blipFill>
          <a:blip r:embed="rId2"/>
          <a:stretch/>
        </p:blipFill>
        <p:spPr>
          <a:xfrm>
            <a:off x="557280" y="3548160"/>
            <a:ext cx="1235160" cy="18000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0"/>
          <p:cNvSpPr/>
          <p:nvPr/>
        </p:nvSpPr>
        <p:spPr>
          <a:xfrm>
            <a:off x="5125680" y="1689120"/>
            <a:ext cx="185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7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Xavier Barraqu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RC Niort Sèv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0" y="1406520"/>
            <a:ext cx="3063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Valérie Gonnor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Responsable de la commission « Essor des Clubs »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RC Challans St Jean de Mo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1792440" y="3976560"/>
            <a:ext cx="254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44O / 44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Joëlle Rou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RC Pornichet St Nazaire Atlantiq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6267600" y="397656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Emmanuelle Mor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RC Mayet Sud Sart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4" descr=""/>
          <p:cNvPicPr/>
          <p:nvPr/>
        </p:nvPicPr>
        <p:blipFill>
          <a:blip r:embed="rId3"/>
          <a:stretch/>
        </p:blipFill>
        <p:spPr>
          <a:xfrm>
            <a:off x="3063960" y="1239840"/>
            <a:ext cx="1320840" cy="18003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5" descr=""/>
          <p:cNvPicPr/>
          <p:nvPr/>
        </p:nvPicPr>
        <p:blipFill>
          <a:blip r:embed="rId4"/>
          <a:stretch/>
        </p:blipFill>
        <p:spPr>
          <a:xfrm>
            <a:off x="7045200" y="1239840"/>
            <a:ext cx="1349640" cy="1800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6"/>
          <p:cNvSpPr/>
          <p:nvPr/>
        </p:nvSpPr>
        <p:spPr>
          <a:xfrm>
            <a:off x="6267600" y="5477040"/>
            <a:ext cx="2530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4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Georgia"/>
              </a:rPr>
              <a:t>En recherche d’un délégué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NOTRE EQUIPE DISTRI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03280" y="1366920"/>
            <a:ext cx="532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Que faisons nous 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1871640" y="2303640"/>
            <a:ext cx="5327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Nous sommes au service des clubs 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448000" y="3095640"/>
            <a:ext cx="4824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Répondre à toutes les ques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Trouver des pistes de développement</a:t>
            </a: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7056360" y="719280"/>
            <a:ext cx="180036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NOTRE EQUIPE DISTRI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503280" y="1366920"/>
            <a:ext cx="53276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Comment le faisons nous 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2448000" y="2303640"/>
            <a:ext cx="4248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Etre au plus proche des clubs !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"/>
          <p:cNvSpPr/>
          <p:nvPr/>
        </p:nvSpPr>
        <p:spPr>
          <a:xfrm>
            <a:off x="2808360" y="3095640"/>
            <a:ext cx="5614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un délégué par secteu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le contact des responsables « effectif » de clu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des informations par l’INFO 151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1"/>
          <a:stretch/>
        </p:blipFill>
        <p:spPr>
          <a:xfrm>
            <a:off x="6915240" y="936720"/>
            <a:ext cx="1797120" cy="1347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ROTARY.ORG – GESTION PROSPEC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2232000" y="4680000"/>
            <a:ext cx="61912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39640" y="12240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Quoi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2160720" y="2952720"/>
            <a:ext cx="3743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Autre piste  de recrut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23800" y="3576600"/>
            <a:ext cx="42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Comment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503280" y="2448000"/>
            <a:ext cx="4248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Georgia"/>
                <a:ea typeface="ヒラギノ角ゴ Pro W3"/>
              </a:rPr>
              <a:t>Pourquoi 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2089080" y="1512720"/>
            <a:ext cx="532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Dossiers en ligne par Rotary.org</a:t>
            </a: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2016000" y="4103640"/>
            <a:ext cx="5759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Le dossier arrive par le délégué  =&gt; 1</a:t>
            </a:r>
            <a:r>
              <a:rPr b="0" lang="fr-FR" sz="2000" spc="-1" strike="noStrike" baseline="33000">
                <a:solidFill>
                  <a:srgbClr val="ffffff"/>
                </a:solidFill>
                <a:latin typeface="Georgia"/>
              </a:rPr>
              <a:t>er</a:t>
            </a: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 t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si ok =&gt; envoi vers un clu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-  procédure interne au clu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Picture 10" descr=""/>
          <p:cNvPicPr/>
          <p:nvPr/>
        </p:nvPicPr>
        <p:blipFill>
          <a:blip r:embed="rId1"/>
          <a:stretch/>
        </p:blipFill>
        <p:spPr>
          <a:xfrm>
            <a:off x="7056360" y="1316160"/>
            <a:ext cx="1144800" cy="1635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D1510 EN CHIFF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595440" y="1084320"/>
            <a:ext cx="8008920" cy="5662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ETAT DES CLUBS SUR 6 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rcRect l="20753" t="6912" r="16990" b="6602"/>
          <a:stretch/>
        </p:blipFill>
        <p:spPr>
          <a:xfrm>
            <a:off x="7704000" y="271440"/>
            <a:ext cx="1011240" cy="14050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3"/>
          <p:cNvSpPr/>
          <p:nvPr/>
        </p:nvSpPr>
        <p:spPr>
          <a:xfrm>
            <a:off x="539640" y="119700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Georgia"/>
              </a:rPr>
              <a:t>Fermeture de 4 club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157640" y="1197000"/>
            <a:ext cx="29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ffffff"/>
                </a:solidFill>
                <a:uFillTx/>
                <a:latin typeface="Georgia"/>
              </a:rPr>
              <a:t>7 clubs en grand dang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7056360" y="273528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Georgia"/>
              </a:rPr>
              <a:t>Les gros clubs ne doivent pas s’endormi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6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6224760" cy="364032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7"/>
          <p:cNvSpPr/>
          <p:nvPr/>
        </p:nvSpPr>
        <p:spPr>
          <a:xfrm>
            <a:off x="5543640" y="3079800"/>
            <a:ext cx="431640" cy="303120"/>
          </a:xfrm>
          <a:prstGeom prst="rect">
            <a:avLst/>
          </a:prstGeom>
          <a:solidFill>
            <a:srgbClr val="f94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7128000" y="4319640"/>
            <a:ext cx="180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ous les clubs doivent être vigilant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7d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457200"/>
            <a:ext cx="6095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Narrow"/>
              </a:rPr>
              <a:t>LE DISTRICT 1510 EN 6 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179280" y="1197000"/>
          <a:ext cx="8569440" cy="38322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2689200" y="9939240"/>
          <a:ext cx="8734320" cy="1152720"/>
        </p:xfrm>
        <a:graphic>
          <a:graphicData uri="http://schemas.openxmlformats.org/drawingml/2006/table">
            <a:tbl>
              <a:tblPr/>
              <a:tblGrid>
                <a:gridCol w="777960"/>
                <a:gridCol w="1133280"/>
                <a:gridCol w="1170000"/>
                <a:gridCol w="1263600"/>
                <a:gridCol w="1211400"/>
                <a:gridCol w="1003320"/>
                <a:gridCol w="1058760"/>
                <a:gridCol w="1116000"/>
              </a:tblGrid>
              <a:tr h="576360"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6360"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4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2689200" y="9939240"/>
          <a:ext cx="8734320" cy="1152720"/>
        </p:xfrm>
        <a:graphic>
          <a:graphicData uri="http://schemas.openxmlformats.org/drawingml/2006/table">
            <a:tbl>
              <a:tblPr/>
              <a:tblGrid>
                <a:gridCol w="777960"/>
                <a:gridCol w="1133280"/>
                <a:gridCol w="1170000"/>
                <a:gridCol w="1263600"/>
                <a:gridCol w="1211400"/>
                <a:gridCol w="1003320"/>
                <a:gridCol w="1058760"/>
                <a:gridCol w="1116000"/>
              </a:tblGrid>
              <a:tr h="576360"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6360"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4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689200" y="9939240"/>
          <a:ext cx="8734320" cy="1152720"/>
        </p:xfrm>
        <a:graphic>
          <a:graphicData uri="http://schemas.openxmlformats.org/drawingml/2006/table">
            <a:tbl>
              <a:tblPr/>
              <a:tblGrid>
                <a:gridCol w="777960"/>
                <a:gridCol w="1133280"/>
                <a:gridCol w="1170000"/>
                <a:gridCol w="1263600"/>
                <a:gridCol w="1211400"/>
                <a:gridCol w="1003320"/>
                <a:gridCol w="1058760"/>
                <a:gridCol w="1116000"/>
              </a:tblGrid>
              <a:tr h="576360"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20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576360"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6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5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 48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7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4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5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33336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ヒラギノ角ゴ Pro W3"/>
                        </a:rPr>
                        <a:t>132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6" name=""/>
          <p:cNvGraphicFramePr/>
          <p:nvPr/>
        </p:nvGraphicFramePr>
        <p:xfrm>
          <a:off x="971640" y="4687920"/>
          <a:ext cx="4824360" cy="812880"/>
        </p:xfrm>
        <a:graphic>
          <a:graphicData uri="http://schemas.openxmlformats.org/drawingml/2006/table">
            <a:tbl>
              <a:tblPr/>
              <a:tblGrid>
                <a:gridCol w="581040"/>
                <a:gridCol w="581040"/>
                <a:gridCol w="581040"/>
                <a:gridCol w="581040"/>
                <a:gridCol w="583920"/>
                <a:gridCol w="581040"/>
                <a:gridCol w="581040"/>
                <a:gridCol w="754200"/>
              </a:tblGrid>
              <a:tr h="406440"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202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06440"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 59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 56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 5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 4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7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4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229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132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347" name="Rectangle 240"/>
          <p:cNvSpPr/>
          <p:nvPr/>
        </p:nvSpPr>
        <p:spPr>
          <a:xfrm>
            <a:off x="15084360" y="5978520"/>
            <a:ext cx="640728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Du 1</a:t>
            </a:r>
            <a:r>
              <a:rPr b="1" lang="fr-FR" sz="2800" spc="-1" strike="noStrike" baseline="33000">
                <a:solidFill>
                  <a:srgbClr val="ff0000"/>
                </a:solidFill>
                <a:latin typeface="Arial"/>
              </a:rPr>
              <a:t>er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juillet 2014 au 07 mars 2021 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- 265 me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- soit 17 % de membres en moins !!!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241"/>
          <p:cNvSpPr/>
          <p:nvPr/>
        </p:nvSpPr>
        <p:spPr>
          <a:xfrm>
            <a:off x="15084360" y="5978520"/>
            <a:ext cx="640728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Du 1</a:t>
            </a:r>
            <a:r>
              <a:rPr b="1" lang="fr-FR" sz="2800" spc="-1" strike="noStrike" baseline="33000">
                <a:solidFill>
                  <a:srgbClr val="ff0000"/>
                </a:solidFill>
                <a:latin typeface="Arial"/>
              </a:rPr>
              <a:t>er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 juillet 2014 au 07 mars 2021 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- 265 me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- soit 17 % de membres en moins !!!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242"/>
          <p:cNvSpPr/>
          <p:nvPr/>
        </p:nvSpPr>
        <p:spPr>
          <a:xfrm>
            <a:off x="5651640" y="2492280"/>
            <a:ext cx="3457440" cy="22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Arial"/>
                <a:ea typeface="ヒラギノ角ゴ Pro W3"/>
              </a:rPr>
              <a:t>Du 1</a:t>
            </a:r>
            <a:r>
              <a:rPr b="1" lang="fr-FR" sz="1600" spc="-1" strike="noStrike" baseline="33000">
                <a:solidFill>
                  <a:srgbClr val="000080"/>
                </a:solidFill>
                <a:latin typeface="Arial"/>
                <a:ea typeface="ヒラギノ角ゴ Pro W3"/>
              </a:rPr>
              <a:t>er</a:t>
            </a:r>
            <a:r>
              <a:rPr b="1" lang="fr-FR" sz="1600" spc="-1" strike="noStrike">
                <a:solidFill>
                  <a:srgbClr val="000080"/>
                </a:solidFill>
                <a:latin typeface="Arial"/>
                <a:ea typeface="ヒラギノ角ゴ Pro W3"/>
              </a:rPr>
              <a:t> juillet 2014 au 07 mars 2021 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Arial"/>
                <a:ea typeface="ヒラギノ角ゴ Pro W3"/>
              </a:rPr>
              <a:t>-perte de 265 rotarie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80"/>
                </a:solidFill>
                <a:latin typeface="Arial"/>
                <a:ea typeface="ヒラギノ角ゴ Pro W3"/>
              </a:rPr>
              <a:t>-17% de membres en moins !!!</a:t>
            </a:r>
            <a:r>
              <a:rPr b="0" lang="fr-FR" sz="36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Thierry PICARD</cp:lastModifiedBy>
  <cp:lastPrinted>2021-03-26T17:22:20Z</cp:lastPrinted>
  <dcterms:modified xsi:type="dcterms:W3CDTF">2021-03-26T17:33:57Z</dcterms:modified>
  <cp:revision>655</cp:revision>
  <dc:subject/>
  <dc:title>PowerPoint Presentation</dc:title>
</cp:coreProperties>
</file>