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CB91A5-2CE0-4A5E-863E-5F4E2C2B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D4B403B-59AE-4507-85AA-6CF620A130BC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72107-4EE0-4B1E-8BCE-00DEE2B63DE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82844-AC98-4B11-87DB-3522467796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C992-C87A-4DA1-BE82-5D47AC3E2B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5D5A-10A5-4D69-805B-1883D12E0D8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DBBC-CD14-4AD6-80CE-2083C6BF754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8432C-67C2-44C7-A5A2-305C889DDB6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668FC-7063-42F4-AB40-5E3ACFA147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F1653-564C-40B2-9C2D-389BB6CD8CE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34FB-4AF7-40F6-97E8-D371CE5EE3B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624A-36FD-4635-86DC-AD3C138FA85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83F78-4CF4-466D-B232-37CE77F9167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8D0EA-F1C0-4DB9-8638-2F1D1FC4054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B245CFD9-7166-4BB2-A2B8-E2503E630D2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5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366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AA1E537F-12A0-4C00-ADE0-F0762E9B248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4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405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55D12AE4-E603-49F2-B4EA-1033AAA8546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444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sldNum" idx="1"/>
          </p:nvPr>
        </p:nvSpPr>
        <p:spPr>
          <a:xfrm>
            <a:off x="4484520" y="6540120"/>
            <a:ext cx="169920" cy="23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817-90CE-4A35-87A8-F0FE44C93880}" type="slidenum">
              <a:rPr b="0" lang="fr-FR" sz="900" spc="-1" strike="noStrike">
                <a:solidFill>
                  <a:srgbClr val="000000"/>
                </a:solidFill>
                <a:latin typeface="Helvetica Neue Light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E9F9E7D6-D412-49CE-B9FE-A082C6F755F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8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pic>
        <p:nvPicPr>
          <p:cNvPr id="484" name="Image 1" descr=""/>
          <p:cNvPicPr/>
          <p:nvPr/>
        </p:nvPicPr>
        <p:blipFill>
          <a:blip r:embed="rId3"/>
          <a:stretch/>
        </p:blipFill>
        <p:spPr>
          <a:xfrm>
            <a:off x="2819520" y="5999040"/>
            <a:ext cx="3346200" cy="8589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DC3CC43-655A-4FD6-9AAD-8B4968FC9FF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pic>
        <p:nvPicPr>
          <p:cNvPr id="525" name="Image 1" descr=""/>
          <p:cNvPicPr/>
          <p:nvPr/>
        </p:nvPicPr>
        <p:blipFill>
          <a:blip r:embed="rId3"/>
          <a:stretch/>
        </p:blipFill>
        <p:spPr>
          <a:xfrm>
            <a:off x="2819520" y="5999040"/>
            <a:ext cx="3346200" cy="8589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C6B03511-D0A3-4A85-9649-9483544A52C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pic>
        <p:nvPicPr>
          <p:cNvPr id="566" name="Image 1" descr=""/>
          <p:cNvPicPr/>
          <p:nvPr/>
        </p:nvPicPr>
        <p:blipFill>
          <a:blip r:embed="rId3"/>
          <a:stretch/>
        </p:blipFill>
        <p:spPr>
          <a:xfrm>
            <a:off x="2819520" y="5999040"/>
            <a:ext cx="3346200" cy="858960"/>
          </a:xfrm>
          <a:prstGeom prst="rect">
            <a:avLst/>
          </a:prstGeom>
          <a:ln w="0">
            <a:noFill/>
          </a:ln>
        </p:spPr>
      </p:pic>
      <p:sp>
        <p:nvSpPr>
          <p:cNvPr id="567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8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E204585-B208-488C-A4DF-4905EC2E4DA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0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pic>
        <p:nvPicPr>
          <p:cNvPr id="607" name="Image 1" descr=""/>
          <p:cNvPicPr/>
          <p:nvPr/>
        </p:nvPicPr>
        <p:blipFill>
          <a:blip r:embed="rId3"/>
          <a:stretch/>
        </p:blipFill>
        <p:spPr>
          <a:xfrm>
            <a:off x="2819520" y="5999040"/>
            <a:ext cx="3346200" cy="858960"/>
          </a:xfrm>
          <a:prstGeom prst="rect">
            <a:avLst/>
          </a:prstGeom>
          <a:ln w="0">
            <a:noFill/>
          </a:ln>
        </p:spPr>
      </p:pic>
      <p:sp>
        <p:nvSpPr>
          <p:cNvPr id="60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A24CFFCE-93CC-4130-BA8E-F2EF66EF1D12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41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702604AD-9F4C-44E5-AC38-AF9857D783AB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pic>
        <p:nvPicPr>
          <p:cNvPr id="80" name="Image 1" descr=""/>
          <p:cNvPicPr/>
          <p:nvPr/>
        </p:nvPicPr>
        <p:blipFill>
          <a:blip r:embed="rId3"/>
          <a:stretch/>
        </p:blipFill>
        <p:spPr>
          <a:xfrm>
            <a:off x="2819520" y="5999040"/>
            <a:ext cx="334620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120" name="Image 4" descr=""/>
          <p:cNvPicPr/>
          <p:nvPr/>
        </p:nvPicPr>
        <p:blipFill>
          <a:blip r:embed="rId4"/>
          <a:stretch/>
        </p:blipFill>
        <p:spPr>
          <a:xfrm>
            <a:off x="2743200" y="5981760"/>
            <a:ext cx="3346560" cy="858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A5FCDBBC-FFC5-423B-A214-D7A9CDFDA49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161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1B9E882B-F8B8-4AD6-9AA2-13692DA3827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202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98223D1B-F1A8-4736-8E4A-A85CAAF9AC4E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243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C8BBDCCE-C1A8-4F66-816A-54BAA9E20568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284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Page |  </a:t>
            </a:r>
            <a:fld id="{F6353466-931A-48A4-8EEC-5F574300075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2"/>
          <a:stretch/>
        </p:blipFill>
        <p:spPr>
          <a:xfrm>
            <a:off x="457200" y="6095880"/>
            <a:ext cx="1436760" cy="540000"/>
          </a:xfrm>
          <a:prstGeom prst="rect">
            <a:avLst/>
          </a:prstGeom>
          <a:ln w="0">
            <a:noFill/>
          </a:ln>
        </p:spPr>
      </p:pic>
      <p:pic>
        <p:nvPicPr>
          <p:cNvPr id="325" name="Image 1" descr=""/>
          <p:cNvPicPr/>
          <p:nvPr/>
        </p:nvPicPr>
        <p:blipFill>
          <a:blip r:embed="rId3"/>
          <a:stretch/>
        </p:blipFill>
        <p:spPr>
          <a:xfrm>
            <a:off x="3124080" y="5864400"/>
            <a:ext cx="3859200" cy="99036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-304920" y="3429000"/>
            <a:ext cx="975384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53" name="Rectangle 10"/>
          <p:cNvSpPr/>
          <p:nvPr/>
        </p:nvSpPr>
        <p:spPr>
          <a:xfrm>
            <a:off x="457200" y="3581280"/>
            <a:ext cx="80773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Arial Narrow Bold"/>
              </a:rPr>
              <a:t>Formation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458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400" spc="-1" strike="noStrike">
              <a:solidFill>
                <a:srgbClr val="958d85"/>
              </a:solidFill>
              <a:latin typeface="Georgia"/>
              <a:ea typeface="Georgia"/>
            </a:endParaRPr>
          </a:p>
        </p:txBody>
      </p:sp>
      <p:pic>
        <p:nvPicPr>
          <p:cNvPr id="678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79" name="Image 2" descr=""/>
          <p:cNvPicPr/>
          <p:nvPr/>
        </p:nvPicPr>
        <p:blipFill>
          <a:blip r:embed="rId2"/>
          <a:stretch/>
        </p:blipFill>
        <p:spPr>
          <a:xfrm>
            <a:off x="0" y="1457280"/>
            <a:ext cx="9144000" cy="4584600"/>
          </a:xfrm>
          <a:prstGeom prst="rect">
            <a:avLst/>
          </a:prstGeom>
          <a:ln w="0">
            <a:noFill/>
          </a:ln>
        </p:spPr>
      </p:pic>
      <p:pic>
        <p:nvPicPr>
          <p:cNvPr id="680" name="Google Shape;61;p14" descr="RotaryMoE_RGB.png"/>
          <p:cNvPicPr/>
          <p:nvPr/>
        </p:nvPicPr>
        <p:blipFill>
          <a:blip r:embed="rId3"/>
          <a:stretch/>
        </p:blipFill>
        <p:spPr>
          <a:xfrm>
            <a:off x="1066680" y="28440"/>
            <a:ext cx="1981440" cy="1905120"/>
          </a:xfrm>
          <a:prstGeom prst="rect">
            <a:avLst/>
          </a:prstGeom>
          <a:ln w="0">
            <a:noFill/>
          </a:ln>
        </p:spPr>
      </p:pic>
      <p:sp>
        <p:nvSpPr>
          <p:cNvPr id="681" name="ZoneTexte 3"/>
          <p:cNvSpPr/>
          <p:nvPr/>
        </p:nvSpPr>
        <p:spPr>
          <a:xfrm flipH="1">
            <a:off x="5715000" y="5334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Fresque en ligne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-16232040" y="-1576440"/>
            <a:ext cx="24588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371600" y="2361960"/>
            <a:ext cx="3657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Dubai"/>
              </a:rPr>
              <a:t>1h30 de réflexion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Dubai"/>
              </a:rPr>
              <a:t>30 mn de créativité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Dubai"/>
              </a:rPr>
              <a:t>10 mn de restitution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Dubai"/>
              </a:rPr>
              <a:t>50 mn d’échanges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84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85" name="Google Shape;61;p14" descr="RotaryMoE_RGB.png"/>
          <p:cNvPicPr/>
          <p:nvPr/>
        </p:nvPicPr>
        <p:blipFill>
          <a:blip r:embed="rId2"/>
          <a:stretch/>
        </p:blipFill>
        <p:spPr>
          <a:xfrm>
            <a:off x="685800" y="763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16232040" y="-1576440"/>
            <a:ext cx="24588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7086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  <a:ea typeface="Dubai"/>
              </a:rPr>
              <a:t>Un outil à la disposition des clubs pour 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Calibri"/>
                <a:ea typeface="Dubai"/>
              </a:rPr>
              <a:t>SERVIR POUR CHANGER DES VIES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187ad"/>
                </a:solidFill>
                <a:latin typeface="Calibri"/>
                <a:ea typeface="Dubai"/>
              </a:rPr>
              <a:t>e.levesque1@sfr.fr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88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89" name="Google Shape;61;p14" descr="RotaryMoE_RGB.png"/>
          <p:cNvPicPr/>
          <p:nvPr/>
        </p:nvPicPr>
        <p:blipFill>
          <a:blip r:embed="rId2"/>
          <a:stretch/>
        </p:blipFill>
        <p:spPr>
          <a:xfrm>
            <a:off x="685800" y="763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ZoneTexte 1"/>
          <p:cNvSpPr/>
          <p:nvPr/>
        </p:nvSpPr>
        <p:spPr>
          <a:xfrm flipH="1">
            <a:off x="1218600" y="259884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Arial"/>
              </a:rPr>
              <a:t>Merci pour votre attention</a:t>
            </a:r>
            <a:endParaRPr b="0" lang="en-US" sz="3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Narrow"/>
                <a:ea typeface="Arial Narrow"/>
              </a:rPr>
              <a:t>District 1510 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56840" y="1219320"/>
            <a:ext cx="79246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371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1b4e7"/>
                </a:solidFill>
                <a:latin typeface="Arial Narrow"/>
                <a:ea typeface="Georgia"/>
              </a:rPr>
              <a:t> </a:t>
            </a:r>
            <a:r>
              <a:rPr b="1" lang="en-US" sz="4400" spc="-1" strike="noStrike">
                <a:solidFill>
                  <a:srgbClr val="01b4e7"/>
                </a:solidFill>
                <a:latin typeface="Arial Narrow"/>
                <a:ea typeface="Georgia"/>
              </a:rPr>
              <a:t>AGIR POUR L’AVENIR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56" name="Google Shape;220;p28" descr=""/>
          <p:cNvPicPr/>
          <p:nvPr/>
        </p:nvPicPr>
        <p:blipFill>
          <a:blip r:embed="rId1"/>
          <a:stretch/>
        </p:blipFill>
        <p:spPr>
          <a:xfrm>
            <a:off x="1765440" y="3386160"/>
            <a:ext cx="530856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839080" cy="166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Calibri"/>
                <a:ea typeface="Arial Narrow"/>
              </a:rPr>
              <a:t>L’environnement devient un nouvel axe stratégiqu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2827080"/>
            <a:ext cx="7772400" cy="2438280"/>
          </a:xfrm>
          <a:prstGeom prst="rect">
            <a:avLst/>
          </a:prstGeom>
          <a:solidFill>
            <a:srgbClr val="eae8e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  <a:ea typeface="Georgia"/>
              </a:rPr>
              <a:t>L’urgence climatique et les travaux du GIEC nous interpellent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  <a:ea typeface="Georgia"/>
              </a:rPr>
              <a:t>Les rotariens ont un rôle à jouer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4000" spc="-1" strike="noStrike">
                <a:solidFill>
                  <a:srgbClr val="958d85"/>
                </a:solidFill>
                <a:latin typeface="Calibri"/>
                <a:ea typeface="Arial"/>
              </a:rPr>
              <a:t>GIEC</a:t>
            </a:r>
            <a:br>
              <a:rPr sz="9600"/>
            </a:br>
            <a:r>
              <a:rPr b="1" lang="fr-FR" sz="2800" spc="-1" strike="noStrike">
                <a:solidFill>
                  <a:srgbClr val="958d85"/>
                </a:solidFill>
                <a:latin typeface="Calibri"/>
                <a:ea typeface="Arial"/>
              </a:rPr>
              <a:t>Groupe d’experts Intergouvernemental sur l’Evolution du Climat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6840" y="2361960"/>
            <a:ext cx="8458200" cy="3352680"/>
          </a:xfrm>
          <a:prstGeom prst="rect">
            <a:avLst/>
          </a:prstGeom>
          <a:solidFill>
            <a:srgbClr val="eae8e7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Constitution en 1988 par l’ONU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Ouvert à tous les pays membres de l’ONU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Des scientifiques et des représentants des états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Consensus de la communauté scientifique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Jean Jouzel, glaciologue et climatologue vice-président 2002-2015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buClr>
                <a:srgbClr val="3d85c6"/>
              </a:buClr>
              <a:buSzPct val="208000"/>
              <a:buFont typeface="Helvetica Neue"/>
              <a:buChar char="●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3d85c6"/>
                </a:solidFill>
                <a:latin typeface="Calibri"/>
                <a:ea typeface="Dubai"/>
              </a:rPr>
              <a:t>Valérie Masson Delmotte, paléoclimatologue, coprésidente du groupe de travail N°1 sur le changement climatique depuis 2015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marL="538920" indent="-538920">
              <a:spcBef>
                <a:spcPts val="601"/>
              </a:spcBef>
              <a:buClr>
                <a:srgbClr val="3d85c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-16232040" y="-1576440"/>
            <a:ext cx="24588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75960" y="243792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Un jeu créé par Cédric Ringenbach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Basé sur la travaux du GIEC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Faisant appel à l’intelligence collective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Ne nécessitant pas de compétence particulière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63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64" name="Google Shape;61;p14" descr="RotaryMoE_RGB.png"/>
          <p:cNvPicPr/>
          <p:nvPr/>
        </p:nvPicPr>
        <p:blipFill>
          <a:blip r:embed="rId2"/>
          <a:stretch/>
        </p:blipFill>
        <p:spPr>
          <a:xfrm>
            <a:off x="685800" y="763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Image 1" descr=""/>
          <p:cNvPicPr/>
          <p:nvPr/>
        </p:nvPicPr>
        <p:blipFill>
          <a:blip r:embed="rId1"/>
          <a:stretch/>
        </p:blipFill>
        <p:spPr>
          <a:xfrm>
            <a:off x="930240" y="857160"/>
            <a:ext cx="71517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-16232040" y="-1576440"/>
            <a:ext cx="24588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42 cartes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Distribuées par lots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Logique cause/conséquence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187ad"/>
                </a:solidFill>
                <a:latin typeface="Calibri"/>
                <a:ea typeface="Dubai"/>
              </a:rPr>
              <a:t>Informations données sur les cartes</a:t>
            </a:r>
            <a:endParaRPr b="0" lang="en-US" sz="36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68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69" name="Google Shape;61;p14" descr="RotaryMoE_RGB.png"/>
          <p:cNvPicPr/>
          <p:nvPr/>
        </p:nvPicPr>
        <p:blipFill>
          <a:blip r:embed="rId2"/>
          <a:stretch/>
        </p:blipFill>
        <p:spPr>
          <a:xfrm>
            <a:off x="685800" y="76320"/>
            <a:ext cx="19810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Image 2" descr=""/>
          <p:cNvPicPr/>
          <p:nvPr/>
        </p:nvPicPr>
        <p:blipFill>
          <a:blip r:embed="rId1"/>
          <a:stretch/>
        </p:blipFill>
        <p:spPr>
          <a:xfrm>
            <a:off x="0" y="1598760"/>
            <a:ext cx="9144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458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fr-FR" sz="2000" spc="-1" strike="noStrike">
              <a:solidFill>
                <a:srgbClr val="958d85"/>
              </a:solidFill>
              <a:latin typeface="Arial Narrow"/>
              <a:ea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62120" y="1962000"/>
            <a:ext cx="35049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Georgia"/>
              </a:rPr>
              <a:t>Ludique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Georgia"/>
              </a:rPr>
              <a:t>Collaboratif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Georgia"/>
              </a:rPr>
              <a:t>Visuel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pic>
        <p:nvPicPr>
          <p:cNvPr id="673" name="Google Shape;220;p28" descr=""/>
          <p:cNvPicPr/>
          <p:nvPr/>
        </p:nvPicPr>
        <p:blipFill>
          <a:blip r:embed="rId1"/>
          <a:stretch/>
        </p:blipFill>
        <p:spPr>
          <a:xfrm>
            <a:off x="5029200" y="361800"/>
            <a:ext cx="3809880" cy="1041480"/>
          </a:xfrm>
          <a:prstGeom prst="rect">
            <a:avLst/>
          </a:prstGeom>
          <a:ln w="0">
            <a:noFill/>
          </a:ln>
        </p:spPr>
      </p:pic>
      <p:pic>
        <p:nvPicPr>
          <p:cNvPr id="674" name="Google Shape;61;p14" descr="RotaryMoE_RGB.png"/>
          <p:cNvPicPr/>
          <p:nvPr/>
        </p:nvPicPr>
        <p:blipFill>
          <a:blip r:embed="rId2"/>
          <a:stretch/>
        </p:blipFill>
        <p:spPr>
          <a:xfrm>
            <a:off x="1066680" y="28440"/>
            <a:ext cx="1981440" cy="1905120"/>
          </a:xfrm>
          <a:prstGeom prst="rect">
            <a:avLst/>
          </a:prstGeom>
          <a:ln w="0">
            <a:noFill/>
          </a:ln>
        </p:spPr>
      </p:pic>
      <p:sp>
        <p:nvSpPr>
          <p:cNvPr id="675" name="Espace réservé du texte 3"/>
          <p:cNvSpPr/>
          <p:nvPr/>
        </p:nvSpPr>
        <p:spPr>
          <a:xfrm>
            <a:off x="5145120" y="1947960"/>
            <a:ext cx="3505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MS PGothic"/>
              </a:rPr>
              <a:t>Créatif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MS PGothic"/>
              </a:rPr>
              <a:t>Simple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  <a:ea typeface="MS PGothic"/>
              </a:rPr>
              <a:t>Scientifique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Thierry PICARD</cp:lastModifiedBy>
  <cp:lastPrinted>2021-03-26T17:16:15Z</cp:lastPrinted>
  <dcterms:modified xsi:type="dcterms:W3CDTF">2021-03-26T17:16:16Z</dcterms:modified>
  <cp:revision>658</cp:revision>
  <dc:subject/>
  <dc:title>PowerPoint Presentation</dc:title>
</cp:coreProperties>
</file>